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move the slide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C29703E-F9CF-46C9-A5DF-707FB6CFD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B972B7-4134-4651-9DB0-56CC2E50FA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B4D0C8-AA81-4F93-970B-B2BE2E209D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09AE26-D433-4E60-93FD-E26A06DA1E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6CDCCE5-E1AD-4CCA-93CC-25D7DA5901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6571B8-FF0B-433C-884E-27F9E58C94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E269B0-03C8-4B5B-B83B-C973DF47AD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0D4C340-5211-4001-AA60-27D3468D3D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673F5A1-2D1F-4423-83DA-5028E98F3A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3617C8-848F-4D39-BED1-6B3AA5EC51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95C-6087-4402-9378-4CF448D6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795-8D55-4695-BDA4-DF2EAAA4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813-2D63-43AA-820A-A4C46E63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662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056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268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662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056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7AD-6427-407C-87CB-0AAB56EB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5C19-B845-4CE7-9A29-9568C6A4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1281-822C-4C25-88EA-19F72FE5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6665-8DFA-4EF6-BFF9-56065A26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BD10-0103-42A4-85A6-29D3D02F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740A-02CA-48DB-AFC0-91A931A8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89240" y="227160"/>
            <a:ext cx="753264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A00C-6432-4E81-AF01-081D6ABC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E101-AA89-46BD-8B5C-B29F07A5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2F2-EB4B-4AAE-B363-ECC7F9FE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8DCA-2AB3-4487-A937-E2E77E50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41EC-23BF-4219-957A-B4038DEE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C3BF-2F1F-4790-955E-7242B659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8B79-78E1-43D6-A621-0E20D0AA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662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056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68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662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056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CF3F-7739-4F01-8005-8CC1DD86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BD99-1F6C-4B1E-8460-2D3BE781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C9DE5-0F73-46C0-84D8-F4813EC9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C4CB6-EC8A-4242-A31B-ED5997BF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1421-6E28-489F-B3CD-9188D58D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50E3-5502-46BD-8B87-1B0C9E93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7F5-CB8D-4775-A157-EDBC75F4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89240" y="227160"/>
            <a:ext cx="753264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17A8B-1905-4D2D-8A14-CCF97975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4155-3CE1-4672-A1E7-30887EF7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F58D1-47A4-47D4-AD62-580CF3D4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EB96-9254-40F0-A83C-4E77D4BE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6ADA-0BF9-4DB6-9801-599A130D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5569-3643-484A-9337-A9B56E57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662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056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68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662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056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A2F9-3D49-4F2B-B8DF-D2A9AAC8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E642-44CF-407F-8C25-7BA7492E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36E39-1A66-4799-9C40-635FE11D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8375C-16A9-44FD-9318-C1EA44CB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362-AD8B-4645-BA3B-B8BF760E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05EA-973B-4518-91A7-7AFF5717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30677-D0D5-4BFE-B94D-A6B3B5FA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389240" y="227160"/>
            <a:ext cx="753264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D7465-F4EE-4674-8F5E-A5E9F4C5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A2D7-D787-4BB9-B2AF-4B515C52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44B54-CE97-4B6E-93AF-1598C0B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23FD-1D83-4442-B146-8315F909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A3759-8182-448F-823B-1769B8B4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14BE8-BA9F-47F0-A280-F1896D8D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662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056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268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662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056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F627-405B-4753-B54C-A713B112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25D-5E2B-4A22-BC42-0AB3E73F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389240" y="227160"/>
            <a:ext cx="753264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89240" y="227160"/>
            <a:ext cx="753264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692-FDA9-4504-8439-876ED8D7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662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056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2268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662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1056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389240" y="227160"/>
            <a:ext cx="753264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275-0D53-4797-A4C6-5D54A8C0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1662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05600" y="212832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2268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1662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105600" y="4477680"/>
            <a:ext cx="279900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1080" y="447768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C8A-A335-4C5C-9BE1-C5203B5E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080" y="2128320"/>
            <a:ext cx="424188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6800" y="4477680"/>
            <a:ext cx="8692920" cy="214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539-8CB7-4452-8110-0F5D5707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agebg"/>
          <p:cNvPicPr/>
          <p:nvPr/>
        </p:nvPicPr>
        <p:blipFill>
          <a:blip r:embed="rId2"/>
          <a:srcRect l="0" t="0" r="46072" b="0"/>
          <a:stretch/>
        </p:blipFill>
        <p:spPr>
          <a:xfrm>
            <a:off x="0" y="0"/>
            <a:ext cx="9144000" cy="5654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7160" y="225360"/>
            <a:ext cx="8692920" cy="6399360"/>
          </a:xfrm>
          <a:prstGeom prst="rect">
            <a:avLst/>
          </a:prstGeom>
          <a:solidFill>
            <a:srgbClr val="002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27160" y="3430440"/>
            <a:ext cx="8692920" cy="3198960"/>
          </a:xfrm>
          <a:prstGeom prst="rect">
            <a:avLst/>
          </a:prstGeom>
          <a:gradFill rotWithShape="0">
            <a:gsLst>
              <a:gs pos="0">
                <a:srgbClr val="002762"/>
              </a:gs>
              <a:gs pos="100000">
                <a:srgbClr val="001a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6" descr="A_2colors"/>
          <p:cNvPicPr/>
          <p:nvPr/>
        </p:nvPicPr>
        <p:blipFill>
          <a:blip r:embed="rId3"/>
          <a:stretch/>
        </p:blipFill>
        <p:spPr>
          <a:xfrm>
            <a:off x="406440" y="412920"/>
            <a:ext cx="960480" cy="677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woolf"/>
          <p:cNvPicPr/>
          <p:nvPr/>
        </p:nvPicPr>
        <p:blipFill>
          <a:blip r:embed="rId4"/>
          <a:srcRect l="0" t="56582" r="0" b="36272"/>
          <a:stretch/>
        </p:blipFill>
        <p:spPr>
          <a:xfrm>
            <a:off x="228600" y="1228680"/>
            <a:ext cx="8693280" cy="914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228600" y="1143000"/>
            <a:ext cx="8693280" cy="1066680"/>
          </a:xfrm>
          <a:prstGeom prst="rect">
            <a:avLst/>
          </a:prstGeom>
          <a:gradFill rotWithShape="0">
            <a:gsLst>
              <a:gs pos="0">
                <a:srgbClr val="002762">
                  <a:alpha val="60392"/>
                </a:srgbClr>
              </a:gs>
              <a:gs pos="100000">
                <a:srgbClr val="002762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1228680"/>
            <a:ext cx="8693280" cy="182520"/>
          </a:xfrm>
          <a:prstGeom prst="rect">
            <a:avLst/>
          </a:prstGeom>
          <a:solidFill>
            <a:srgbClr val="0047b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227160" y="225360"/>
            <a:ext cx="869292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227160" y="6622920"/>
            <a:ext cx="869292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22824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124080" y="61527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678132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6b3c8"/>
                </a:solidFill>
                <a:latin typeface="Gill Sans St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2F66-DEA8-4D49-B0A2-623436C1AE98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marL="233280" indent="-23328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edit the title text format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agebg"/>
          <p:cNvPicPr/>
          <p:nvPr/>
        </p:nvPicPr>
        <p:blipFill>
          <a:blip r:embed="rId2"/>
          <a:srcRect l="0" t="0" r="46072" b="0"/>
          <a:stretch/>
        </p:blipFill>
        <p:spPr>
          <a:xfrm>
            <a:off x="0" y="0"/>
            <a:ext cx="9144000" cy="5654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27160" y="225360"/>
            <a:ext cx="8692920" cy="6399360"/>
          </a:xfrm>
          <a:prstGeom prst="rect">
            <a:avLst/>
          </a:prstGeom>
          <a:solidFill>
            <a:srgbClr val="002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27160" y="3430440"/>
            <a:ext cx="8692920" cy="3198960"/>
          </a:xfrm>
          <a:prstGeom prst="rect">
            <a:avLst/>
          </a:prstGeom>
          <a:gradFill rotWithShape="0">
            <a:gsLst>
              <a:gs pos="0">
                <a:srgbClr val="002762"/>
              </a:gs>
              <a:gs pos="100000">
                <a:srgbClr val="001a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28600" y="1222200"/>
            <a:ext cx="8693280" cy="195480"/>
          </a:xfrm>
          <a:prstGeom prst="rect">
            <a:avLst/>
          </a:prstGeom>
          <a:solidFill>
            <a:srgbClr val="0047b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27160" y="225360"/>
            <a:ext cx="869292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27160" y="6622920"/>
            <a:ext cx="869292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dt" idx="4"/>
          </p:nvPr>
        </p:nvSpPr>
        <p:spPr>
          <a:xfrm>
            <a:off x="22824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5"/>
          </p:nvPr>
        </p:nvSpPr>
        <p:spPr>
          <a:xfrm>
            <a:off x="3124080" y="61527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6"/>
          </p:nvPr>
        </p:nvSpPr>
        <p:spPr>
          <a:xfrm>
            <a:off x="678132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6b3c8"/>
                </a:solidFill>
                <a:latin typeface="Gill Sans St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1357-F035-49E7-9B23-9872B68D376B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2" descr="A_2colors"/>
          <p:cNvPicPr/>
          <p:nvPr/>
        </p:nvPicPr>
        <p:blipFill>
          <a:blip r:embed="rId3"/>
          <a:stretch/>
        </p:blipFill>
        <p:spPr>
          <a:xfrm>
            <a:off x="406440" y="412920"/>
            <a:ext cx="960480" cy="677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226800" y="1404720"/>
            <a:ext cx="8692920" cy="5221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marL="233280" indent="-23328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4" marL="2057400" indent="-22860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title"/>
          </p:nvPr>
        </p:nvSpPr>
        <p:spPr>
          <a:xfrm>
            <a:off x="1389240" y="225000"/>
            <a:ext cx="7532640" cy="1179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edit the title text format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agebg"/>
          <p:cNvPicPr/>
          <p:nvPr/>
        </p:nvPicPr>
        <p:blipFill>
          <a:blip r:embed="rId2"/>
          <a:srcRect l="0" t="0" r="46072" b="0"/>
          <a:stretch/>
        </p:blipFill>
        <p:spPr>
          <a:xfrm>
            <a:off x="0" y="0"/>
            <a:ext cx="9144000" cy="5654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370160" y="225360"/>
            <a:ext cx="7549920" cy="6407280"/>
          </a:xfrm>
          <a:prstGeom prst="rect">
            <a:avLst/>
          </a:prstGeom>
          <a:solidFill>
            <a:srgbClr val="002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370160" y="3430440"/>
            <a:ext cx="7549920" cy="3198960"/>
          </a:xfrm>
          <a:prstGeom prst="rect">
            <a:avLst/>
          </a:prstGeom>
          <a:gradFill rotWithShape="0">
            <a:gsLst>
              <a:gs pos="0">
                <a:srgbClr val="002762"/>
              </a:gs>
              <a:gs pos="100000">
                <a:srgbClr val="001a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" descr="woolf"/>
          <p:cNvPicPr/>
          <p:nvPr/>
        </p:nvPicPr>
        <p:blipFill>
          <a:blip r:embed="rId3"/>
          <a:srcRect l="0" t="56056" r="0" b="35700"/>
          <a:stretch/>
        </p:blipFill>
        <p:spPr>
          <a:xfrm>
            <a:off x="1371600" y="1228680"/>
            <a:ext cx="7550280" cy="916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_2colors"/>
          <p:cNvPicPr/>
          <p:nvPr/>
        </p:nvPicPr>
        <p:blipFill>
          <a:blip r:embed="rId4"/>
          <a:stretch/>
        </p:blipFill>
        <p:spPr>
          <a:xfrm>
            <a:off x="109440" y="5762520"/>
            <a:ext cx="1228680" cy="866880"/>
          </a:xfrm>
          <a:prstGeom prst="rect">
            <a:avLst/>
          </a:prstGeom>
          <a:ln w="0">
            <a:noFill/>
          </a:ln>
        </p:spPr>
      </p:pic>
      <p:sp>
        <p:nvSpPr>
          <p:cNvPr id="106" name="Line 8"/>
          <p:cNvSpPr/>
          <p:nvPr/>
        </p:nvSpPr>
        <p:spPr>
          <a:xfrm>
            <a:off x="1371600" y="225360"/>
            <a:ext cx="755028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371600" y="6632640"/>
            <a:ext cx="755028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1371600" y="1143000"/>
            <a:ext cx="7550280" cy="1066680"/>
          </a:xfrm>
          <a:prstGeom prst="rect">
            <a:avLst/>
          </a:prstGeom>
          <a:gradFill rotWithShape="0">
            <a:gsLst>
              <a:gs pos="0">
                <a:srgbClr val="002762">
                  <a:alpha val="60392"/>
                </a:srgbClr>
              </a:gs>
              <a:gs pos="100000">
                <a:srgbClr val="002762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371600" y="1228680"/>
            <a:ext cx="7550280" cy="182520"/>
          </a:xfrm>
          <a:prstGeom prst="rect">
            <a:avLst/>
          </a:prstGeom>
          <a:solidFill>
            <a:srgbClr val="0047b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dt" idx="7"/>
          </p:nvPr>
        </p:nvSpPr>
        <p:spPr>
          <a:xfrm>
            <a:off x="137124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ftr" idx="8"/>
          </p:nvPr>
        </p:nvSpPr>
        <p:spPr>
          <a:xfrm>
            <a:off x="3695400" y="6152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9"/>
          </p:nvPr>
        </p:nvSpPr>
        <p:spPr>
          <a:xfrm>
            <a:off x="678132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6b3c8"/>
                </a:solidFill>
                <a:latin typeface="Gill Sans St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987C-03FC-4B44-A4B2-D2584F9FBB6E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1370160" y="2128320"/>
            <a:ext cx="7549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marL="233280" indent="-23328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title"/>
          </p:nvPr>
        </p:nvSpPr>
        <p:spPr>
          <a:xfrm>
            <a:off x="1370160" y="227160"/>
            <a:ext cx="754992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edit the title text format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pagebg"/>
          <p:cNvPicPr/>
          <p:nvPr/>
        </p:nvPicPr>
        <p:blipFill>
          <a:blip r:embed="rId2"/>
          <a:srcRect l="0" t="0" r="46072" b="0"/>
          <a:stretch/>
        </p:blipFill>
        <p:spPr>
          <a:xfrm>
            <a:off x="0" y="0"/>
            <a:ext cx="9144000" cy="56545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371600" y="225360"/>
            <a:ext cx="7550280" cy="6399360"/>
          </a:xfrm>
          <a:prstGeom prst="rect">
            <a:avLst/>
          </a:prstGeom>
          <a:solidFill>
            <a:srgbClr val="002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371600" y="3430440"/>
            <a:ext cx="7550280" cy="3198960"/>
          </a:xfrm>
          <a:prstGeom prst="rect">
            <a:avLst/>
          </a:prstGeom>
          <a:gradFill rotWithShape="0">
            <a:gsLst>
              <a:gs pos="0">
                <a:srgbClr val="002762"/>
              </a:gs>
              <a:gs pos="100000">
                <a:srgbClr val="001a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371600" y="1222200"/>
            <a:ext cx="7550280" cy="195480"/>
          </a:xfrm>
          <a:prstGeom prst="rect">
            <a:avLst/>
          </a:prstGeom>
          <a:solidFill>
            <a:srgbClr val="0047b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1371600" y="225360"/>
            <a:ext cx="754236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371600" y="6622920"/>
            <a:ext cx="754236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A_2colors"/>
          <p:cNvPicPr/>
          <p:nvPr/>
        </p:nvPicPr>
        <p:blipFill>
          <a:blip r:embed="rId3"/>
          <a:stretch/>
        </p:blipFill>
        <p:spPr>
          <a:xfrm>
            <a:off x="109440" y="5762520"/>
            <a:ext cx="1228680" cy="866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137124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3695400" y="61527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6781320" y="615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6b3c8"/>
                </a:solidFill>
                <a:latin typeface="Gill Sans Std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71B8-1EF0-41C9-BDC0-0BD110257F5B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1370160" y="1406160"/>
            <a:ext cx="7549920" cy="521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marL="233280" indent="-23328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title"/>
          </p:nvPr>
        </p:nvSpPr>
        <p:spPr>
          <a:xfrm>
            <a:off x="1370160" y="227160"/>
            <a:ext cx="754992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edit the title text format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pagebg"/>
          <p:cNvPicPr/>
          <p:nvPr/>
        </p:nvPicPr>
        <p:blipFill>
          <a:blip r:embed="rId2"/>
          <a:srcRect l="0" t="0" r="46072" b="0"/>
          <a:stretch/>
        </p:blipFill>
        <p:spPr>
          <a:xfrm>
            <a:off x="0" y="0"/>
            <a:ext cx="9144000" cy="56545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28600" y="225360"/>
            <a:ext cx="8693280" cy="6407280"/>
          </a:xfrm>
          <a:prstGeom prst="rect">
            <a:avLst/>
          </a:prstGeom>
          <a:solidFill>
            <a:srgbClr val="002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27160" y="3430440"/>
            <a:ext cx="8692920" cy="3198960"/>
          </a:xfrm>
          <a:prstGeom prst="rect">
            <a:avLst/>
          </a:prstGeom>
          <a:gradFill rotWithShape="0">
            <a:gsLst>
              <a:gs pos="0">
                <a:srgbClr val="002762"/>
              </a:gs>
              <a:gs pos="100000">
                <a:srgbClr val="001a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6" descr="cam_scn_sm_31"/>
          <p:cNvPicPr/>
          <p:nvPr/>
        </p:nvPicPr>
        <p:blipFill>
          <a:blip r:embed="rId3"/>
          <a:srcRect l="0" t="42568" r="0" b="29191"/>
          <a:stretch/>
        </p:blipFill>
        <p:spPr>
          <a:xfrm>
            <a:off x="228600" y="988920"/>
            <a:ext cx="8680320" cy="1371600"/>
          </a:xfrm>
          <a:prstGeom prst="rect">
            <a:avLst/>
          </a:prstGeom>
          <a:ln w="0">
            <a:noFill/>
          </a:ln>
        </p:spPr>
      </p:pic>
      <p:sp>
        <p:nvSpPr>
          <p:cNvPr id="205" name="Line 7"/>
          <p:cNvSpPr/>
          <p:nvPr/>
        </p:nvSpPr>
        <p:spPr>
          <a:xfrm>
            <a:off x="228600" y="225360"/>
            <a:ext cx="869328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228600" y="6627960"/>
            <a:ext cx="869328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2744640" y="3429000"/>
            <a:ext cx="3656160" cy="1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6b10"/>
              </a:gs>
              <a:gs pos="100000">
                <a:srgbClr val="6c32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Rectangle 10"/>
          <p:cNvGrpSpPr/>
          <p:nvPr/>
        </p:nvGrpSpPr>
        <p:grpSpPr>
          <a:xfrm>
            <a:off x="231840" y="895320"/>
            <a:ext cx="8686440" cy="1549440"/>
            <a:chOff x="231840" y="895320"/>
            <a:chExt cx="8686440" cy="1549440"/>
          </a:xfrm>
        </p:grpSpPr>
        <p:pic>
          <p:nvPicPr>
            <p:cNvPr id="209" name="Rectangle 10" descr=""/>
            <p:cNvPicPr/>
            <p:nvPr/>
          </p:nvPicPr>
          <p:blipFill>
            <a:blip r:embed="rId4"/>
            <a:stretch/>
          </p:blipFill>
          <p:spPr>
            <a:xfrm>
              <a:off x="234720" y="895320"/>
              <a:ext cx="86835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31840" y="896760"/>
              <a:ext cx="86850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Rectangle 11"/>
          <p:cNvSpPr/>
          <p:nvPr/>
        </p:nvSpPr>
        <p:spPr>
          <a:xfrm>
            <a:off x="228600" y="985680"/>
            <a:ext cx="8685360" cy="228600"/>
          </a:xfrm>
          <a:prstGeom prst="rect">
            <a:avLst/>
          </a:prstGeom>
          <a:solidFill>
            <a:srgbClr val="0047b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12" descr="full_2color_blue"/>
          <p:cNvPicPr/>
          <p:nvPr/>
        </p:nvPicPr>
        <p:blipFill>
          <a:blip r:embed="rId5"/>
          <a:stretch/>
        </p:blipFill>
        <p:spPr>
          <a:xfrm>
            <a:off x="2952720" y="5176800"/>
            <a:ext cx="3198960" cy="10000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marL="233280" indent="-23328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ill Sans St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edit the title text format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pagebg"/>
          <p:cNvPicPr/>
          <p:nvPr/>
        </p:nvPicPr>
        <p:blipFill>
          <a:blip r:embed="rId2"/>
          <a:srcRect l="0" t="0" r="46072" b="0"/>
          <a:stretch/>
        </p:blipFill>
        <p:spPr>
          <a:xfrm>
            <a:off x="0" y="0"/>
            <a:ext cx="9144000" cy="5654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28600" y="225360"/>
            <a:ext cx="8693280" cy="6407280"/>
          </a:xfrm>
          <a:prstGeom prst="rect">
            <a:avLst/>
          </a:prstGeom>
          <a:solidFill>
            <a:srgbClr val="002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28600" y="985680"/>
            <a:ext cx="8685360" cy="247680"/>
          </a:xfrm>
          <a:prstGeom prst="rect">
            <a:avLst/>
          </a:prstGeom>
          <a:solidFill>
            <a:srgbClr val="0047b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27160" y="3430440"/>
            <a:ext cx="8692920" cy="3198960"/>
          </a:xfrm>
          <a:prstGeom prst="rect">
            <a:avLst/>
          </a:prstGeom>
          <a:gradFill rotWithShape="0">
            <a:gsLst>
              <a:gs pos="0">
                <a:srgbClr val="002762"/>
              </a:gs>
              <a:gs pos="100000">
                <a:srgbClr val="001a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228600" y="225360"/>
            <a:ext cx="868356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228600" y="6627960"/>
            <a:ext cx="8683560" cy="0"/>
          </a:xfrm>
          <a:prstGeom prst="line">
            <a:avLst/>
          </a:prstGeom>
          <a:ln w="15840">
            <a:solidFill>
              <a:srgbClr val="f58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9"/>
          <p:cNvSpPr/>
          <p:nvPr/>
        </p:nvSpPr>
        <p:spPr>
          <a:xfrm>
            <a:off x="2744640" y="3429000"/>
            <a:ext cx="3656160" cy="1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6b10"/>
              </a:gs>
              <a:gs pos="100000">
                <a:srgbClr val="6c32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Picture 10" descr="full_2color_blue"/>
          <p:cNvPicPr/>
          <p:nvPr/>
        </p:nvPicPr>
        <p:blipFill>
          <a:blip r:embed="rId3"/>
          <a:stretch/>
        </p:blipFill>
        <p:spPr>
          <a:xfrm>
            <a:off x="2971800" y="5176800"/>
            <a:ext cx="3198960" cy="1000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226800" y="1404720"/>
            <a:ext cx="8692920" cy="5221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rmAutofit/>
          </a:bodyPr>
          <a:p>
            <a:pPr marL="233280" indent="-23328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4" marL="2057400" indent="-22860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389240" y="225000"/>
            <a:ext cx="7532640" cy="1179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2286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lick to edit the title text format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6800" y="1213920"/>
            <a:ext cx="8692920" cy="2057400"/>
          </a:xfrm>
          <a:prstGeom prst="rect">
            <a:avLst/>
          </a:prstGeom>
          <a:noFill/>
          <a:ln w="0">
            <a:noFill/>
          </a:ln>
        </p:spPr>
        <p:txBody>
          <a:bodyPr lIns="18288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rst Language Acquisition</a:t>
            </a:r>
            <a:endParaRPr b="0" lang="en-US" sz="32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6800" y="3427200"/>
            <a:ext cx="8692920" cy="319860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cture #16</a:t>
            </a:r>
            <a:endParaRPr b="0" lang="en-US" sz="22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5E2F-DEF1-445C-9A59-B07D1C46959E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First Language Acquisition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Why do we call it language</a:t>
            </a: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 acquisition?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Learning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Intentional process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Presupposes teaching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Teacher controls pace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Acquisition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Unconscious process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Does not presuppose teaching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Child controls pace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</p:txBody>
      </p:sp>
      <p:pic>
        <p:nvPicPr>
          <p:cNvPr id="310" name="Picture 4" descr="MPj02020300000[1]"/>
          <p:cNvPicPr/>
          <p:nvPr/>
        </p:nvPicPr>
        <p:blipFill>
          <a:blip r:embed="rId1"/>
          <a:srcRect l="2699" t="12500" r="0" b="0"/>
          <a:stretch/>
        </p:blipFill>
        <p:spPr>
          <a:xfrm>
            <a:off x="5638680" y="3048120"/>
            <a:ext cx="2349720" cy="320040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51B3-F005-4A13-B82D-C338D34B5290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First Language Acquisition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7160" y="2128320"/>
            <a:ext cx="823104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How do </a:t>
            </a: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nurture </a:t>
            </a: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nature </a:t>
            </a: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interact in FLA?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Nature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Must have LAD—poverty of stimulus too great to learn without “language instinct”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All children learn a language; have language capacity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Overgeneralizations demonstrate child is analyzing language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Nurture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Children cannot acquire language without interaction/scaffolding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Children learn the language of their environment; through parents who model social interaction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Memorization of chunks by rote demonstrates not all info is anlayzed fully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</p:txBody>
      </p:sp>
    </p:spTree>
  </p:cSld>
  <p:transition advTm="10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C3C9-2B96-4DFC-8AE8-5B9475183157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Four Pillars of FLA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7160" y="2128320"/>
            <a:ext cx="457344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lvl="1" marL="690480" indent="-342720">
              <a:spcBef>
                <a:spcPts val="499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Ability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Physiological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Cognitive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690480" indent="-342720">
              <a:spcBef>
                <a:spcPts val="499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Interaction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Scaffolding (Caretaker speech)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690480" indent="-342720">
              <a:spcBef>
                <a:spcPts val="499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Internal vs. External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Instrumental vs. Integrative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690480" indent="-342720">
              <a:spcBef>
                <a:spcPts val="499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Forms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Meaning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88920" indent="-304560">
              <a:spcBef>
                <a:spcPts val="451"/>
              </a:spcBef>
              <a:buClr>
                <a:srgbClr val="a6b3c8"/>
              </a:buClr>
              <a:buSzPct val="90000"/>
              <a:buFont typeface="Gill Sans St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Function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029200" y="3500280"/>
            <a:ext cx="3657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rgeted/limited vocab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ggerated intonatio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stioning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4724280" y="3505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395"/>
                </a:lnTo>
                <a:cubicBezTo>
                  <a:pt x="10800" y="4295"/>
                  <a:pt x="5400" y="5195"/>
                  <a:pt x="0" y="5195"/>
                </a:cubicBezTo>
                <a:cubicBezTo>
                  <a:pt x="5400" y="5195"/>
                  <a:pt x="10800" y="6095"/>
                  <a:pt x="10800" y="69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6" descr="MPj04387990000[1]"/>
          <p:cNvPicPr/>
          <p:nvPr/>
        </p:nvPicPr>
        <p:blipFill>
          <a:blip r:embed="rId1"/>
          <a:srcRect l="3121" t="0" r="6254" b="46880"/>
          <a:stretch/>
        </p:blipFill>
        <p:spPr>
          <a:xfrm>
            <a:off x="5410080" y="789120"/>
            <a:ext cx="2743200" cy="24112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89FC-E58E-4B46-9015-4AB50292F215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Critical Period Hypothesis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7160" y="2128320"/>
            <a:ext cx="586872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There is an ideal window of opportunity within which we are primed to acquire language: birth - puberty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Evidence?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Adults struggle to learn a second language (to a greater or lesser degree)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he question is why?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We struggle with both the physiological and the cognitive ability.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pic>
        <p:nvPicPr>
          <p:cNvPr id="323" name="Picture 5" descr="MPj04340170000[1]"/>
          <p:cNvPicPr/>
          <p:nvPr/>
        </p:nvPicPr>
        <p:blipFill>
          <a:blip r:embed="rId1"/>
          <a:srcRect l="52087" t="14111" r="8332" b="12548"/>
          <a:stretch/>
        </p:blipFill>
        <p:spPr>
          <a:xfrm>
            <a:off x="6172200" y="2514600"/>
            <a:ext cx="2587680" cy="320040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5FC7-A5CE-42BE-8DC3-094EE9D20B1A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Stages of First Language Acquisition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Prelinguistic Sounds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0-1 mo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Sleep, eat, cry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1 mo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Intonational patterns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2-5 mo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ooing stage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5-12 mo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Babbling stage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One-word Stage (holophrastic)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1 yr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emergence of first word (controversial)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1 yr., 6 mo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Holophrastic stage 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intonation layers on meaning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Std Light"/>
              </a:rPr>
              <a:t>‘</a:t>
            </a:r>
            <a:r>
              <a:rPr b="1" lang="en-US" sz="1800" spc="-1" strike="noStrike">
                <a:solidFill>
                  <a:srgbClr val="ffffff"/>
                </a:solidFill>
                <a:latin typeface="Gill Sans Std Light"/>
              </a:rPr>
              <a:t>fis’ phenomenon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</p:txBody>
      </p:sp>
      <p:pic>
        <p:nvPicPr>
          <p:cNvPr id="327" name="Picture 7" descr="MPj04071400000[1]"/>
          <p:cNvPicPr/>
          <p:nvPr/>
        </p:nvPicPr>
        <p:blipFill>
          <a:blip r:embed="rId1"/>
          <a:stretch/>
        </p:blipFill>
        <p:spPr>
          <a:xfrm>
            <a:off x="4876920" y="1295280"/>
            <a:ext cx="3504960" cy="23367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CE54-77C7-41FE-99E1-35C26887DD97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Stages of First Language Acquisition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Two-word Stage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2 yr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wo words, three possible interpretations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Subject-verb ‘Mary go.’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Verb-modifier ‘Push truck.’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Possessor-possesed ‘Mommy sock’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ontent words, no function words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Telegraphic Stage 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2 yrs., 6 mo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telegraphic stage 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2-5 words with little extra morphology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Std Light"/>
              </a:rPr>
              <a:t>Morphological overgeneralization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Easier, more productive morphemes first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</p:txBody>
      </p:sp>
      <p:pic>
        <p:nvPicPr>
          <p:cNvPr id="331" name="Picture 4" descr="MPj04394410000[1]"/>
          <p:cNvPicPr/>
          <p:nvPr/>
        </p:nvPicPr>
        <p:blipFill>
          <a:blip r:embed="rId1"/>
          <a:srcRect l="8511" t="0" r="6381" b="0"/>
          <a:stretch/>
        </p:blipFill>
        <p:spPr>
          <a:xfrm>
            <a:off x="5486400" y="3400560"/>
            <a:ext cx="3048120" cy="23907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57B3-040F-49F0-8859-90770DFDE555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Stages of First Language Acquisition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7160" y="2128320"/>
            <a:ext cx="739296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Telegraphic Stage, cont.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2-5 yr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More elaborate syntax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Learning 20-30 words per day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Semantic overgeneralization/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undergeneralization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Std Light"/>
              </a:rPr>
              <a:t>Fine-tuning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Std Light"/>
              </a:rPr>
              <a:t>5-10 yrs. 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Refining grammar, building vocabulary 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2" marL="914400" indent="-230040">
              <a:spcBef>
                <a:spcPts val="45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Std Light"/>
              </a:rPr>
              <a:t>How children learn vocabulary:</a:t>
            </a:r>
            <a:endParaRPr b="0" lang="en-US" sz="1800" spc="-1" strike="noStrike">
              <a:solidFill>
                <a:srgbClr val="ffffff"/>
              </a:solidFill>
              <a:latin typeface="Gill Sans Std Light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Gill Sans St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Std"/>
              </a:rPr>
              <a:t>Assign word to a broad semantic category</a:t>
            </a:r>
            <a:endParaRPr b="0" lang="en-US" sz="1600" spc="-1" strike="noStrike">
              <a:solidFill>
                <a:srgbClr val="ffffff"/>
              </a:solidFill>
              <a:latin typeface="Gill Sans Std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Gill Sans St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Std"/>
              </a:rPr>
              <a:t>Work out distinctions among words in that category</a:t>
            </a:r>
            <a:endParaRPr b="0" lang="en-US" sz="1600" spc="-1" strike="noStrike">
              <a:solidFill>
                <a:srgbClr val="ffffff"/>
              </a:solidFill>
              <a:latin typeface="Gill Sans Std"/>
            </a:endParaRPr>
          </a:p>
        </p:txBody>
      </p:sp>
      <p:pic>
        <p:nvPicPr>
          <p:cNvPr id="335" name="Picture 5" descr="MPj04306580000[1]"/>
          <p:cNvPicPr/>
          <p:nvPr/>
        </p:nvPicPr>
        <p:blipFill>
          <a:blip r:embed="rId1"/>
          <a:srcRect l="39242" t="0" r="0" b="33545"/>
          <a:stretch/>
        </p:blipFill>
        <p:spPr>
          <a:xfrm>
            <a:off x="5715000" y="1523880"/>
            <a:ext cx="2438280" cy="2667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7816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D542-53C5-41D6-90D1-D9F8B490654A}" type="slidenum">
              <a:rPr b="0" lang="en-US" sz="800" spc="-1" strike="noStrike">
                <a:solidFill>
                  <a:srgbClr val="a6b3c8"/>
                </a:solidFill>
                <a:latin typeface="Gill Sans Std Light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89240" y="227160"/>
            <a:ext cx="7532640" cy="117936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Gill Sans Std Light"/>
              </a:rPr>
              <a:t>Building Vocabulary</a:t>
            </a:r>
            <a:endParaRPr b="0" lang="en-US" sz="3000" spc="-1" strike="noStrike">
              <a:solidFill>
                <a:srgbClr val="eaeaea"/>
              </a:solidFill>
              <a:latin typeface="Gill Sans Std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6800" y="2128320"/>
            <a:ext cx="869292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228600" anchor="t">
            <a:normAutofit/>
          </a:bodyPr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Traditional efforts: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Flash cards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Look it up in the dictionary—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what is the problem here?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marL="233280" indent="-233280">
              <a:spcBef>
                <a:spcPts val="601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Std Light"/>
              </a:rPr>
              <a:t>Better to learn vocab in context:</a:t>
            </a:r>
            <a:endParaRPr b="0" lang="en-US" sz="24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Reading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Conversation 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-222120">
              <a:spcBef>
                <a:spcPts val="499"/>
              </a:spcBef>
              <a:buClr>
                <a:srgbClr val="a6b3c8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td Light"/>
              </a:rPr>
              <a:t>Language learning software</a:t>
            </a: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Std Light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066680" y="54864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225"/>
                </a:solidFill>
                <a:latin typeface="Arial"/>
              </a:rPr>
              <a:t>How can you help your children develop their language skills the most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7" descr="MPj04394930000[1]"/>
          <p:cNvPicPr/>
          <p:nvPr/>
        </p:nvPicPr>
        <p:blipFill>
          <a:blip r:embed="rId1"/>
          <a:stretch/>
        </p:blipFill>
        <p:spPr>
          <a:xfrm>
            <a:off x="4800600" y="111456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2:23:05Z</dcterms:created>
  <dc:creator>David J. Silva</dc:creator>
  <dc:description/>
  <dc:language>en-US</dc:language>
  <cp:lastModifiedBy>Comer</cp:lastModifiedBy>
  <dcterms:modified xsi:type="dcterms:W3CDTF">2011-05-11T00:56:31Z</dcterms:modified>
  <cp:revision>143</cp:revision>
  <dc:subject/>
  <dc:title>LING 2301 Introduction to the Study of Human Language</dc:title>
</cp:coreProperties>
</file>